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E66-8CC2-41AC-8CB3-FAA14595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659-D7EC-4FDC-90C2-70DA0B05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534-B2F8-45C5-A0FD-3A1716B3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46C-F89C-42A0-B43A-4B1157E4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2C6-69A1-4DB7-B428-BEF3E777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B6D-CE94-4C1F-A3EB-9E5A84ED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F9A-B238-4BD9-A68C-8BF897E0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68F-543C-42B9-9EC0-EE50D306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085-5302-4211-8FB2-79A2A77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FA8-9229-4B59-B657-D04BB5FF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B06-B793-41C4-908C-FF56A305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667-2848-4961-B821-21D52BF4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3ED7-3694-4498-B28B-6F04D1BC1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791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sunsh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un-crnr" descr=""/>
          <p:cNvPicPr/>
          <p:nvPr/>
        </p:nvPicPr>
        <p:blipFill>
          <a:blip r:embed="rId2"/>
          <a:stretch/>
        </p:blipFill>
        <p:spPr>
          <a:xfrm>
            <a:off x="2286000" y="0"/>
            <a:ext cx="60958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blue%20sky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162560" cy="536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943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blue sk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mommy%20and%20her%20girls2" descr=""/>
          <p:cNvPicPr/>
          <p:nvPr/>
        </p:nvPicPr>
        <p:blipFill>
          <a:blip r:embed="rId2"/>
          <a:stretch/>
        </p:blipFill>
        <p:spPr>
          <a:xfrm>
            <a:off x="2454120" y="304920"/>
            <a:ext cx="4235760" cy="6248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6019920"/>
            <a:ext cx="7696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Mom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boy" descr=""/>
          <p:cNvPicPr/>
          <p:nvPr/>
        </p:nvPicPr>
        <p:blipFill>
          <a:blip r:embed="rId2"/>
          <a:stretch/>
        </p:blipFill>
        <p:spPr>
          <a:xfrm>
            <a:off x="2835360" y="762120"/>
            <a:ext cx="3471840" cy="47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47920" y="5791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kye-sun" descr=""/>
          <p:cNvPicPr/>
          <p:nvPr/>
        </p:nvPicPr>
        <p:blipFill>
          <a:blip r:embed="rId2"/>
          <a:stretch/>
        </p:blipFill>
        <p:spPr>
          <a:xfrm>
            <a:off x="2489040" y="304920"/>
            <a:ext cx="4164120" cy="556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5943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sunsh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sky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6858000" cy="548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5867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blue sk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giraffebb" descr="Baby giraffe with hismom."/>
          <p:cNvPicPr/>
          <p:nvPr/>
        </p:nvPicPr>
        <p:blipFill>
          <a:blip r:embed="rId2"/>
          <a:stretch/>
        </p:blipFill>
        <p:spPr>
          <a:xfrm>
            <a:off x="2371680" y="152280"/>
            <a:ext cx="4400640" cy="586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5759280"/>
            <a:ext cx="7696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Mom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giraffe_200x150" descr=""/>
          <p:cNvPicPr/>
          <p:nvPr/>
        </p:nvPicPr>
        <p:blipFill>
          <a:blip r:embed="rId2"/>
          <a:stretch/>
        </p:blipFill>
        <p:spPr>
          <a:xfrm>
            <a:off x="1790640" y="914400"/>
            <a:ext cx="5562720" cy="42116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-6858000" y="-3049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5715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sk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blue sk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leaves-mommy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Mom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happy-face" descr=""/>
          <p:cNvPicPr/>
          <p:nvPr/>
        </p:nvPicPr>
        <p:blipFill>
          <a:blip r:embed="rId2"/>
          <a:srcRect l="0" t="0" r="18283" b="0"/>
          <a:stretch/>
        </p:blipFill>
        <p:spPr>
          <a:xfrm>
            <a:off x="1676520" y="380880"/>
            <a:ext cx="579096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5835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sun_darcy5_ourladys_300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5791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sunsh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sky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001000" cy="487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5791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blue sk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Gorilla%20baby_250" descr=""/>
          <p:cNvPicPr/>
          <p:nvPr/>
        </p:nvPicPr>
        <p:blipFill>
          <a:blip r:embed="rId2"/>
          <a:stretch/>
        </p:blipFill>
        <p:spPr>
          <a:xfrm>
            <a:off x="2438280" y="0"/>
            <a:ext cx="4592880" cy="5638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638680"/>
            <a:ext cx="7696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Mom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Baby%20gorilla%2001%20sized" descr=""/>
          <p:cNvPicPr/>
          <p:nvPr/>
        </p:nvPicPr>
        <p:blipFill>
          <a:blip r:embed="rId2"/>
          <a:stretch/>
        </p:blipFill>
        <p:spPr>
          <a:xfrm>
            <a:off x="2286000" y="228600"/>
            <a:ext cx="4102200" cy="5334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5835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sun" descr=""/>
          <p:cNvPicPr/>
          <p:nvPr/>
        </p:nvPicPr>
        <p:blipFill>
          <a:blip r:embed="rId2"/>
          <a:stretch/>
        </p:blipFill>
        <p:spPr>
          <a:xfrm>
            <a:off x="1901880" y="304920"/>
            <a:ext cx="5340240" cy="5410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5791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May there always be sunsh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1:12:24Z</dcterms:created>
  <dc:creator>Unknown User</dc:creator>
  <dc:description/>
  <dc:language>en-US</dc:language>
  <cp:lastModifiedBy>Dunamis</cp:lastModifiedBy>
  <dcterms:modified xsi:type="dcterms:W3CDTF">2004-01-13T19:39:11Z</dcterms:modified>
  <cp:revision>8</cp:revision>
  <dc:subject/>
  <dc:title>PowerPoint Presentation</dc:title>
</cp:coreProperties>
</file>